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6594-5657-4048-85A6-22C336F06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97DC-EB1B-44D1-A7EF-BDA80BB65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8962-3B82-4201-87C0-2193AD169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3F2C-C190-4D4F-97FB-94D6C51E9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A7EA-3BE4-48E4-8594-34CF894F21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CD54-E0A3-4A60-9818-820837FAC3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E699-8576-416A-9204-1A9BA72B71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E427-F807-476E-AD26-BC87FD7EDC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6502-83DE-41F7-A94D-170F8521E2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D79D-CBFC-4404-A989-D2423AEB1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C949-FDB5-45BA-B68E-9C74DAC53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68B6-66B0-498A-9004-0C8B22FA7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3B8C-CF7B-4D41-84A2-06CDE438E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FB61-5D05-4DD0-9C74-691E3ABBD6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72E7-0CD1-4536-A58D-3EB9329B92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C3EE-DBC9-4DDE-861F-FA38CA649F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6E97-0C27-47ED-A17C-83A8468E5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7CC6-212B-4FBC-A6D9-C9E7A42A5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DCE8-09EA-4996-A79A-C4A49B94F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3A46-7D3F-46B9-927A-FEBA1516F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CE37-E70B-4CBA-82E4-633A4B466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DD86-D7D9-42E7-A1B8-AC0D3C61B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F0EC-A029-4D6D-B5C9-3377267D3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3BFC-9E89-43FD-BA4B-21CAB7459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"/>
          <p:cNvSpPr/>
          <p:nvPr/>
        </p:nvSpPr>
        <p:spPr>
          <a:xfrm>
            <a:off x="8350200" y="6553080"/>
            <a:ext cx="79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AE4-950C-42EF-8373-55E641DB04FE}" type="slidenum">
              <a:rPr b="0" lang="ja-JP" sz="1600" spc="-1" strike="noStrike">
                <a:solidFill>
                  <a:srgbClr val="3333cc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huma.org/pepperpad/" TargetMode="External"/><Relationship Id="rId2" Type="http://schemas.openxmlformats.org/officeDocument/2006/relationships/hyperlink" Target="http://www.chuma.org/pepperpad/" TargetMode="External"/><Relationship Id="rId3" Type="http://schemas.openxmlformats.org/officeDocument/2006/relationships/hyperlink" Target="http://www.chuma.org/pepperpad/" TargetMode="External"/><Relationship Id="rId4" Type="http://schemas.openxmlformats.org/officeDocument/2006/relationships/hyperlink" Target="http://www.pepper.com/forums/index.php" TargetMode="External"/><Relationship Id="rId5" Type="http://schemas.openxmlformats.org/officeDocument/2006/relationships/hyperlink" Target="http://www.pepper.com/forums/index.php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epperhacks.com/" TargetMode="External"/><Relationship Id="rId2" Type="http://schemas.openxmlformats.org/officeDocument/2006/relationships/hyperlink" Target="http://www.pepperhacks.com/" TargetMode="External"/><Relationship Id="rId3" Type="http://schemas.openxmlformats.org/officeDocument/2006/relationships/hyperlink" Target="http://www.pepperhacks.com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epper.com/" TargetMode="External"/><Relationship Id="rId2" Type="http://schemas.openxmlformats.org/officeDocument/2006/relationships/hyperlink" Target="mailto:jon.melamut@pepper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5760" y="5672160"/>
            <a:ext cx="1363680" cy="662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638520"/>
            <a:ext cx="8686800" cy="0"/>
          </a:xfrm>
          <a:prstGeom prst="line">
            <a:avLst/>
          </a:prstGeom>
          <a:ln w="57240">
            <a:solidFill>
              <a:srgbClr val="588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657600"/>
            <a:ext cx="315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, 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5440" y="6037920"/>
            <a:ext cx="197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kyo Jamboree #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6640" y="3111480"/>
            <a:ext cx="5487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Development on the Pepper 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0400" y="4216320"/>
            <a:ext cx="3109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dr</a:t>
            </a:r>
            <a:r>
              <a:rPr b="1" lang="ja-JP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é Krützfe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484F-CE72-45E3-A706-4AFDD5DE1CA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 the configur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t the appropriate config path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PKG_CONFIG_PATH=/opt/fdo/lib/pkgconfig:/opt/gtk/lib/pkgconfig:…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dditionally you can also copy the folders from the pa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BE5C-646E-4DD6-969D-9A403EC588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X11 &amp; GT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pepperpad has both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ut the location is differen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opt/fdo - X11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opt/gtk - gtk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ome additional RPMs are in /opt/pu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stall also the </a:t>
            </a:r>
            <a:r>
              <a:rPr b="0" lang="en-US" sz="2600" spc="-1" strike="noStrike">
                <a:solidFill>
                  <a:srgbClr val="ff0000"/>
                </a:solidFill>
                <a:latin typeface="ＭＳ Ｐゴシック"/>
              </a:rPr>
              <a:t>xorg-devel-7.0-6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 package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configure a program us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/configure --with-x-includes=/opt/fdo/include \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-with-x-libraries=/opt/fdo/lib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FC34-C6F5-4427-BD81-199CF76D3F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pperpad &amp; samb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amba is pre installe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Just add yourself as a user and start the serv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etc/init.d/samba star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n the Mac desktop enter &lt;apple&gt;-k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 the dialog box enter smb://&lt;ip-number&gt;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Mac will open a finder window of your pepperpa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A94F-AD5F-422D-91FA-412B9BA4CF8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me useful sit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39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chuma.org/pepperpad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ook at the pre-build RPM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 file manag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VNC view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4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5"/>
              </a:rPr>
              <a:t>www.pepper.com/forums/index.ph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ots of information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F3DE-DFB2-4F85-8138-C4D51F9AD6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me useful sites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pepperhacks.com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PDF read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D863-FE87-4339-9A41-1ECF05858D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take I di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96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Don’t get an SD card &gt; 1G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 is not supported yet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D585-746E-47B1-B7A7-DA7437309A7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epper P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36840" y="1774800"/>
            <a:ext cx="6070320" cy="330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58112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C9FC-C438-4676-9004-450A47BA6A4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makes it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company can be found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www.pepper.com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CELF contact i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n Melamu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, Sales &amp; Business Developmen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pper Computer, Inc.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one: +1.781.862.2500 x 209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: +1.978.430.8359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on.melamut@pepper.com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BE69-FB84-474D-B2A3-A2302A9C92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does it contai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9720" y="1222200"/>
            <a:ext cx="838224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ux Kernel 2.6.13 (preemptive), UBOOT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phics &amp; Audi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K+, Xorg R7, Freetype, Cairo, Alsa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T3 (journaling), EXT2, FAT, VFAT/FAT32, 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FS, HFS+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able Med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 (HID, mass storage, audio, network)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D/MMC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uchscreen, keypads, scrollwheel, mouse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eyboard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P/IP, DHCP, WiFi WEP, WPA supplicant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luez (HID, OBEX, SPP, HSP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frame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pper Keeper 2.1, Java 2, XML-based application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kages, automatic package download and install,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ly signed, multiple security level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le-optimized Mozilla Firefox 1.5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1.6, XML, XSL, CS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3, WMA*, Real*, AAC*, HTTP/RTSP/MMS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eaming, PLS/AU playlists, Helix framework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5890-4285-479C-8F0F-9E4E3E51FA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does it contain?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89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G-4, AVI, WMV*, Real*, HTTP/RTSP/MM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eaming, MPlayer and Helix framework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P, RTP, RTCP, G.711 VAD/CNG, G.729A/B, G.723.1,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.726, echo cancellation, STUN, NAT traversal, DTMF,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aptive jitter buffe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G, GIF, PNG, TIFF, Yahoo! Flickr sha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romedia Flash 7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M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DRM10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/V contr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 learn and transmit, UPnP Media Controller and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nderer*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3 and IMAP4, AOL Inbox, Web mai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L IM, Y!*, SI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boo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ipocket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3EB7-7537-48FD-BCAF-B646F686A9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does it contain? (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nd most importan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 full development toolset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 can be found und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/opt/montavista/pro/devkit/arm/xscale_le/packages/pro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re are all sorts of packages, which ones do you need?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E3AE-7EFF-44F7-97AB-BE70AF8722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things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6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get an xterm on the pad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Press &lt;crtl&gt; &lt;shift&gt; 1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start the ssh serv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ype service ssh star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ow you can connect from your Mac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 save some memory you can disable the pepper deskto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rvice pepper sto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Don’t forget to start it again :-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EFD1-428E-4238-8C30-AEF99A56D8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C develop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cc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cc-doc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libc-dev-2.3.2-25.0.27.0500612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libc-doc-2.3.2-25.0.27.0500612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stall with ‘</a:t>
            </a:r>
            <a:r>
              <a:rPr b="0" lang="en-US" sz="2600" spc="-1" strike="noStrike">
                <a:solidFill>
                  <a:srgbClr val="000000"/>
                </a:solidFill>
                <a:latin typeface="Monaco"/>
              </a:rPr>
              <a:t>rpm -Uvh filename.mvl’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4196-2713-4923-A645-77AF62F79C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 C++ develop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++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ibstdc++5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ibstdc++5-dev-3.3.1-3.0.13.0400526.arm_xscale_le.mv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stall with ‘</a:t>
            </a:r>
            <a:r>
              <a:rPr b="0" lang="en-US" sz="2600" spc="-1" strike="noStrike">
                <a:solidFill>
                  <a:srgbClr val="000000"/>
                </a:solidFill>
                <a:latin typeface="Monaco"/>
              </a:rPr>
              <a:t>rpm -Uvh filename.mvl’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F324-D1C8-4BA3-995C-4EE467998E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7:45:29Z</dcterms:created>
  <dc:creator>Aplix Corporation</dc:creator>
  <dc:description>
</dc:description>
  <dc:language>en-US</dc:language>
  <cp:lastModifiedBy>Satoru Ueda</cp:lastModifiedBy>
  <cp:lastPrinted>2003-07-31T14:03:35Z</cp:lastPrinted>
  <dcterms:modified xsi:type="dcterms:W3CDTF">2006-05-29T00:55:37Z</dcterms:modified>
  <cp:revision>2390</cp:revision>
  <dc:subject/>
  <dc:title>平成17年12月期第1四半期決算説明会</dc:title>
</cp:coreProperties>
</file>